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0387F-1B75-45EB-AB01-9BC0D47F95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7414A-1AF2-4D13-8F2B-B9EC37EBC76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71EC7-4D6F-494E-B623-7ABA376F778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EE92DF6-1427-4F2B-BA45-B621C4C6ECA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ACAD443-9C40-41B5-8576-078390430FAA}" type="datetime">
              <a:rPr b="0" lang="fr-FR" sz="1200" spc="-1" strike="noStrike">
                <a:solidFill>
                  <a:srgbClr val="000000"/>
                </a:solidFill>
                <a:latin typeface="Times New Roman"/>
                <a:ea typeface="Arial"/>
              </a:rPr>
              <a:t>29/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D5E2A-40E8-4D11-9620-39CA667A391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27B34-D9AA-4ADA-949D-F38DD2E7959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060554-4930-430E-AD35-07CAB0638D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12CD7-3C6D-4307-976F-D51E5848E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CB9C32-5E50-43D4-B677-EC2A8A3622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574978-FCCA-44E7-A9ED-1427DC95D6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97B9D-98D2-47CF-8C22-095D5337C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737B6-E4CB-4F96-8FFE-EA6DE4BED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F6C2B-18D4-434B-B8F0-B56A74CB0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72C1F-D660-4B66-B3A5-F69E4A034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B2CCB-21F5-452E-A8DC-46C2F6B3B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50B27-1424-4917-9FD3-58932046B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F5ABA-DFC2-4D59-AB7D-819EC6B2A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3ED96-0754-4480-8436-F50045F815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CCE26-786B-406B-9EA5-ED16EA4374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FDC2DA4-A792-454B-9491-7E0F9393DCD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D8883-B97E-482F-960F-A80404D3B456}"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161B1-F66D-4868-8126-BF87D832A00A}"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